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CAE-D6C9-4536-8644-D0ADEA97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50E-D60B-4165-9826-72698AF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867-8AEF-4D47-9298-50BB397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834-D5AD-4DC2-B2D6-227041C4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592-8E30-4276-A2F3-9A50FBE1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D94-1591-46BA-B906-B9F2E70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678-9DDA-47FA-9FEF-62C020C2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52-6922-4D70-B28F-76E1063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F5A-A5DC-4979-99DB-66716628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894-D673-4FB4-BA1E-39556EC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02F-3C20-4B95-81AE-EB7287C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0D7-7D79-4F64-9B5C-E9B9448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26D-A74D-40EE-8174-389AA56C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blopicasso.org/images/paintings/guernic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ocuweb.ca/SiSpain/spanish/history/republic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uerra Civil Españ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ente españ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807000" cy="46483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4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308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990720" y="1278000"/>
            <a:ext cx="70866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4572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celona- modern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7467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-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Guernica, 1937 by Pablo Picass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" y="2039760"/>
            <a:ext cx="8991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triunfo de Fr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ranco victorious"/>
          <p:cNvPicPr/>
          <p:nvPr/>
        </p:nvPicPr>
        <p:blipFill>
          <a:blip r:embed="rId1"/>
          <a:stretch/>
        </p:blipFill>
        <p:spPr>
          <a:xfrm>
            <a:off x="1681200" y="2100240"/>
            <a:ext cx="578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Siglo 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1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unda Re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6-1939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Guerra Civil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7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icasso, Guernica. (1937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9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El 1 de abril termina la guerra civil; vencen las tropas franquistas. (Franco) 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75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Juan Carlos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de Borbón, rey de Espa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ausas de la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onso XIII: rey de España 1902-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visión anti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 crisis económica durante los 192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uel Primo de Rive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ó un golpe de estado 1923 y asumió el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dió la co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eció la ley m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eció un sistema estricto de la cens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ió estar en poder por 90 dias pero su dictadura duró hasta 1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ió el apoya del ejercito y tuvo que dejar su 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egunda Re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1931 Alfonsó XIII consintió a las elecciones democr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las primeras elecciones desde hace 6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votó y quería que España se convirtiera en una re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vitar la violencia, Alfonso XIII se exil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s conflictos empezaron entre los republicanos y las nacional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ana fue el primer ministro (izquierd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ía mucho desacuerdo con los ca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3, Jose Antonio Primo de Rivera organizó el partido falangista (facista/derech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6, Azana fue elegido Presi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uerra civil empez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os l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Republ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: el gobierno elegido (apoyo de la mitad de los milit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eron la ayuda de las Brigadas Internacionales (los americanos y otros paises europ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trabajadores y la clas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Nacion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: General Francisco Fr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s rebel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eron la ayuda de Mussolini y Hi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glesia Católica, los dueños de la tierra (los ricos) y los hombre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meric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843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republic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587760" cy="23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609480" y="1438200"/>
            <a:ext cx="3610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aciona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2004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5:40:03Z</dcterms:created>
  <dc:creator>cderrane</dc:creator>
  <dc:description/>
  <dc:language>en-US</dc:language>
  <cp:lastModifiedBy>Jessica Kaplan</cp:lastModifiedBy>
  <dcterms:modified xsi:type="dcterms:W3CDTF">2014-04-29T12:11:35Z</dcterms:modified>
  <cp:revision>24</cp:revision>
  <dc:subject/>
  <dc:title>La Guerra Civil Española</dc:title>
</cp:coreProperties>
</file>